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99B-1A74-4C93-9C8A-775EF265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21F-A33E-44BD-87BE-496CC0BD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587-373F-44C9-9D82-217F57B3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CD6-5AAB-4AA0-A052-7B1E07F7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836-6BAA-46CE-BA77-7D2EEF25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F9A-D1C1-4638-8FC9-1E4BA276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73F-7096-46B1-BF73-4B43714B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CAC-683D-4BD5-B292-CA7D6B0B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35D-B984-46AC-A6BD-C38A7C1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E8A-0568-45AE-8522-ACA5FE9F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ECC-5C38-4B15-B664-2D235E30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A2E-7E85-40C8-8EED-316111A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27F7-15B0-44B4-B056-6A2C083C89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7800" cy="5549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6624720" cy="4467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116000" y="836640"/>
            <a:ext cx="6624720" cy="446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116000" y="836640"/>
            <a:ext cx="6624720" cy="446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116000" y="836640"/>
            <a:ext cx="6553080" cy="4468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1187280" y="836640"/>
            <a:ext cx="655344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39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6394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586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2254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373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988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623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2225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37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6009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262620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丁丁自己非常清楚，凭借自己的力量，肯定无法和歹徒对抗，只有假装很听话。他不断的告诉自己要“冷静，冷静，再冷静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在车上，也不知歹徒给丁丁闻了一种什么东西，丁丁昏昏沉沉睡了过去。也不知过了多久，等丁丁醒过来的时候，发现自己双手被粗麻绳反绑在身后，眼睛和嘴巴也被胶带封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　　自己是在什么地方？丁丁用手摸了摸地上，湿漉漉的。他屏住呼吸，凝神倾听，周围很安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　　确定四周没有人后，丁丁开始一步步实施自己的逃跑计划。他感觉有一面墙凹凸不平，于是就把头凑过去对准胶带上下磨，很快眼睛和嘴巴上的胶带便松开了。丁丁此时才发现，自己在一间低矮的小平房里。丁丁想快点离开这里，但绑在手上的绳子特别粗，怎么也磨不断。突然，丁丁想起了学校安全课上老师讲的一种逃生办法——通过打滚成功地将绑着的手从后面翻身到前胸，接着用牙齿扯松绳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　　丁丁照着方法做，果然挣脱了绳索，但是没想到动静太大，惊动了歹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20016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_GB2312"/>
              </a:rPr>
              <a:t>丁丁在前面跑，歹徒在后面紧追不舍，而且越逼越近，丁丁不得不改变逃跑路线。这时丁丁才发现这个地方非常偏僻。他把刚刚解下的绳索放在自己逃跑相反的一个路口上，以迷惑歹徒，自己转身跑进了路旁的小树林里。他躲在一棵大树后面，观察了一会儿，发现歹徒并没有追上来，他松了一口气。可是猛地，他觉得小腿很疼，只听得树丛中一阵娑娑的响声，他想：糟了，肯定是被蛇咬了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41911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丁丁把自己的袜子脱下来，系在一起绑在了自己的小腿上方，忍着痛走上公路，找到公用电话向警方报了警，并拨通了妈妈的电话和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此时，丁丁才知道，已是下午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点多钟，自己与歹徒已周旋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多小时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823" t="0" r="14898" b="0"/>
          <a:stretch/>
        </p:blipFill>
        <p:spPr>
          <a:xfrm>
            <a:off x="179280" y="692280"/>
            <a:ext cx="4932360" cy="468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18240" y="692280"/>
            <a:ext cx="4136760" cy="46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24000" y="189000"/>
            <a:ext cx="28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自护智多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2687040" y="5445000"/>
            <a:ext cx="35946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图中的同学遇到了什么险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如果是你，你有什么好的脱险办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32000" y="1628640"/>
            <a:ext cx="345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力量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周围环境的利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智求助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主观心理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身安全第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无谓地激怒对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暂时妥协，事后报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89000"/>
            <a:ext cx="4572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  <a:ea typeface="隶书"/>
              </a:rPr>
              <a:t>温馨提示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自我保护要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124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小学生，被压在废墟里口渴难耐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77336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邡市洛水小学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的龚辉——咬破腮帮，喝自己的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龚辉说，“刚开始咬的时候还觉得疼，后来咬多了，就习惯了。”“我一口渴，就咬腮帮喝血。”收治他的德阳市第二医院廖医生说，这是她从医以来见到的最坚强的病人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80000" y="1844640"/>
            <a:ext cx="2595600" cy="345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5280" y="189000"/>
            <a:ext cx="223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震中自救</a:t>
            </a:r>
            <a:endParaRPr b="0" lang="en-US" sz="1800" spc="1" strike="noStrike">
              <a:ln w="1584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1962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初一女学生，被压在废墟里又冷又怕她会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30826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川什邡市的蓥华镇中学，一个名叫邓清清的初一女孩被救出时，还在废墟里面打着手电筒看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她说：“下面一片漆黑，我怕。我又冷又饿，只能靠看书缓解心中的害怕！”她的一番话让在场的人听了为之动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43280" y="2133720"/>
            <a:ext cx="4034160" cy="2701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95280" y="189000"/>
            <a:ext cx="223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震中自救</a:t>
            </a:r>
            <a:endParaRPr b="0" lang="en-US" sz="1800" spc="1" strike="noStrike">
              <a:ln w="1584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1548" t="0" r="2754" b="0"/>
          <a:stretch/>
        </p:blipFill>
        <p:spPr>
          <a:xfrm>
            <a:off x="324000" y="1413000"/>
            <a:ext cx="4211640" cy="331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9228" t="-2033" r="5919" b="-978"/>
          <a:stretch/>
        </p:blipFill>
        <p:spPr>
          <a:xfrm>
            <a:off x="4427640" y="1355760"/>
            <a:ext cx="4321080" cy="3416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24000" y="189000"/>
            <a:ext cx="28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自护智多星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0" name=""/>
          <p:cNvSpPr/>
          <p:nvPr/>
        </p:nvSpPr>
        <p:spPr>
          <a:xfrm>
            <a:off x="2687040" y="4869000"/>
            <a:ext cx="35946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图中的同学遇到了什么险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如果是你，你有什么好的脱险办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25066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11280" y="255384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丁丁在语文老师的指导下，把自己的经历写成一篇文章，参加了某出版社举办的中小学生作文大赛，并获得一等奖。一天，他在书店摆放的《中小学生获奖作文选》里发现了自己的那篇文章，而他没有收到发表那篇文章的任何通知。丁丁感到很惊讶，也很困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43628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丁丁应该怎样维护自己的合法权益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45784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丁丁在家长的帮助下一纸诉状将该出版社告上法庭。经人民法院审理判决丁丁获得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万元赔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2560" y="431640"/>
            <a:ext cx="3025440" cy="1341360"/>
            <a:chOff x="682560" y="431640"/>
            <a:chExt cx="3025440" cy="1341360"/>
          </a:xfrm>
        </p:grpSpPr>
        <p:sp>
          <p:nvSpPr>
            <p:cNvPr id="106" name=""/>
            <p:cNvSpPr/>
            <p:nvPr/>
          </p:nvSpPr>
          <p:spPr>
            <a:xfrm rot="16200000">
              <a:off x="1438200" y="-324000"/>
              <a:ext cx="1341360" cy="2852640"/>
            </a:xfrm>
            <a:prstGeom prst="verticalScroll">
              <a:avLst>
                <a:gd name="adj" fmla="val 12500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8120" y="620640"/>
              <a:ext cx="281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第二剧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067280" y="836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丁丁的故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4360" y="692280"/>
            <a:ext cx="807696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中华人民共和国未成年人保护法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141300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中华人民共和国预防未成年人犯罪法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13372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《中华人民共和国宪法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《中华人民共和国义务教育法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《中华人民共和国婚姻法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611280" y="189000"/>
            <a:ext cx="3168720" cy="1341360"/>
            <a:chOff x="611280" y="189000"/>
            <a:chExt cx="3168720" cy="1341360"/>
          </a:xfrm>
        </p:grpSpPr>
        <p:sp>
          <p:nvSpPr>
            <p:cNvPr id="113" name=""/>
            <p:cNvSpPr/>
            <p:nvPr/>
          </p:nvSpPr>
          <p:spPr>
            <a:xfrm rot="16200000">
              <a:off x="1434240" y="-633960"/>
              <a:ext cx="1341360" cy="2987640"/>
            </a:xfrm>
            <a:prstGeom prst="verticalScroll">
              <a:avLst>
                <a:gd name="adj" fmla="val 12500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6920" y="378000"/>
              <a:ext cx="295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安全常识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9640" y="1989000"/>
            <a:ext cx="8137440" cy="2684520"/>
            <a:chOff x="539640" y="1989000"/>
            <a:chExt cx="8137440" cy="2684520"/>
          </a:xfrm>
        </p:grpSpPr>
        <p:sp>
          <p:nvSpPr>
            <p:cNvPr id="116" name=""/>
            <p:cNvSpPr/>
            <p:nvPr/>
          </p:nvSpPr>
          <p:spPr>
            <a:xfrm>
              <a:off x="539640" y="1989000"/>
              <a:ext cx="2713680" cy="268452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小少年是希望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聪明伶俐又健康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警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意识要培养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我保护能力强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51520" y="1989000"/>
              <a:ext cx="2711520" cy="268452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二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蹦跳玩耍防受伤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遇难冷静心不慌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机智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勇敢除祸患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小志大美名扬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63400" y="1989000"/>
              <a:ext cx="2713680" cy="268452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三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少年幸福快快长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学法守法不能忘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遭遇侵害不慌张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法律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武器来帮忙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27640" y="49579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332000" y="1557360"/>
            <a:ext cx="66294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防范侵害 保护自己</a:t>
            </a:r>
            <a:endParaRPr b="1" lang="en-US" sz="4400" spc="1" strike="noStrike">
              <a:ln w="22320">
                <a:solidFill>
                  <a:srgbClr val="333399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6780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24000" y="189000"/>
            <a:ext cx="30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自护训练营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0" y="76500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暑假里，市少年儿童活动中心组织了一次自护训练 活动，让我们也一起参加他们的训练活动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73360"/>
            <a:ext cx="2160720" cy="250272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拟火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护训练营第一组的同学正在休息室里休息，突然有人高喊“着火了！”紧接着“浓烟”涌进了休息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假如你是这个小组的组长，你将如何组织同学们迅速离开火灾现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773360"/>
            <a:ext cx="2160720" cy="158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防骗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护训练营第二组的同学王新正在街上闲逛，一个陌生男子走了过来，自称是王新爸爸的同事，说王新爸爸出了车祸，正在医院治疗，现在要求王新乘他的车去医院看望爸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假如你是王新，你会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773360"/>
            <a:ext cx="2087280" cy="158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自护测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凌晨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自护训练营第三组的女同学许静和朱萍正在梦乡中，突然听到有人敲门，敲门者自称是自护训练营的老师，有事与她们商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你认为许静和朱萍该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请你就女同学如何保护自己提几条合理化建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8000" y="1773360"/>
            <a:ext cx="2160720" cy="97812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见义智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一天晚上，自护训练营第四组的郑光和蒋明同学在返回住处的路上，遇上两个“歹徒”正在抢一位女同学的钱包，两人奋勇上前，结果身负重伤，最后他俩的钱包也被抢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请你结合自己的生活实践给郑光和蒋明同学一个温馨的提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1484280"/>
            <a:ext cx="75614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训练感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通过参加这次自护训练营活动，相信你学到了许多自护自救的知识。请你结合这次实践活动谈谈自己的感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89000"/>
            <a:ext cx="30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自护训练营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56000" y="4022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411280" y="1413000"/>
            <a:ext cx="3961080" cy="22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50000">
                      <a:srgbClr val="0000ff"/>
                    </a:gs>
                    <a:gs pos="100000">
                      <a:srgbClr val="9400ed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8000" spc="1" strike="noStrike">
              <a:ln w="1260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50000">
                    <a:srgbClr val="0000ff"/>
                  </a:gs>
                  <a:gs pos="100000">
                    <a:srgbClr val="9400ed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19640" y="1844640"/>
            <a:ext cx="2160360" cy="201600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防范侵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保护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39640" y="2349360"/>
            <a:ext cx="2664000" cy="1041480"/>
            <a:chOff x="539640" y="2349360"/>
            <a:chExt cx="2664000" cy="1041480"/>
          </a:xfrm>
        </p:grpSpPr>
        <p:sp>
          <p:nvSpPr>
            <p:cNvPr id="132" name=""/>
            <p:cNvSpPr/>
            <p:nvPr/>
          </p:nvSpPr>
          <p:spPr>
            <a:xfrm>
              <a:off x="2268360" y="2565360"/>
              <a:ext cx="935280" cy="698400"/>
            </a:xfrm>
            <a:prstGeom prst="leftArrow">
              <a:avLst>
                <a:gd name="adj1" fmla="val 50000"/>
                <a:gd name="adj2" fmla="val 3347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9640" y="2349360"/>
              <a:ext cx="1652760" cy="1041480"/>
            </a:xfrm>
            <a:prstGeom prst="rect">
              <a:avLst/>
            </a:prstGeom>
            <a:noFill/>
            <a:ln w="22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</a:rPr>
                <a:t>提高警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24360" y="1484280"/>
            <a:ext cx="2516400" cy="1041480"/>
            <a:chOff x="5724360" y="1484280"/>
            <a:chExt cx="2516400" cy="1041480"/>
          </a:xfrm>
        </p:grpSpPr>
        <p:sp>
          <p:nvSpPr>
            <p:cNvPr id="135" name=""/>
            <p:cNvSpPr/>
            <p:nvPr/>
          </p:nvSpPr>
          <p:spPr>
            <a:xfrm>
              <a:off x="6804000" y="1484280"/>
              <a:ext cx="1436760" cy="1041480"/>
            </a:xfrm>
            <a:prstGeom prst="rect">
              <a:avLst/>
            </a:prstGeom>
            <a:noFill/>
            <a:ln w="22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智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4360" y="1773360"/>
              <a:ext cx="959040" cy="625320"/>
            </a:xfrm>
            <a:prstGeom prst="rightArrow">
              <a:avLst>
                <a:gd name="adj1" fmla="val 50000"/>
                <a:gd name="adj2" fmla="val 3834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724360" y="3068640"/>
            <a:ext cx="2517840" cy="1041480"/>
            <a:chOff x="5724360" y="3068640"/>
            <a:chExt cx="2517840" cy="1041480"/>
          </a:xfrm>
        </p:grpSpPr>
        <p:sp>
          <p:nvSpPr>
            <p:cNvPr id="138" name=""/>
            <p:cNvSpPr/>
            <p:nvPr/>
          </p:nvSpPr>
          <p:spPr>
            <a:xfrm>
              <a:off x="6804000" y="3068640"/>
              <a:ext cx="1438200" cy="1041480"/>
            </a:xfrm>
            <a:prstGeom prst="rect">
              <a:avLst/>
            </a:prstGeom>
            <a:noFill/>
            <a:ln w="2232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法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24360" y="3213000"/>
              <a:ext cx="959040" cy="625680"/>
            </a:xfrm>
            <a:prstGeom prst="rightArrow">
              <a:avLst>
                <a:gd name="adj1" fmla="val 50000"/>
                <a:gd name="adj2" fmla="val 3832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1378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16360" y="3860640"/>
            <a:ext cx="442764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1280" y="1557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网上聊天，小燕认识了网友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们在很多问题上观点一致，小燕视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知己。当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小燕介绍自己的“真实身份”和基本情况后，小燕也毫不保留地把姓名、学校、家庭电话等真实信息告诉了他。不久，小燕家被盗，而作案者正是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4292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小燕家为什么被盗？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20" y="0"/>
            <a:ext cx="3025440" cy="1341360"/>
            <a:chOff x="250920" y="0"/>
            <a:chExt cx="3025440" cy="1341360"/>
          </a:xfrm>
        </p:grpSpPr>
        <p:sp>
          <p:nvSpPr>
            <p:cNvPr id="55" name=""/>
            <p:cNvSpPr/>
            <p:nvPr/>
          </p:nvSpPr>
          <p:spPr>
            <a:xfrm rot="16200000">
              <a:off x="1006560" y="-755640"/>
              <a:ext cx="1341360" cy="2852640"/>
            </a:xfrm>
            <a:prstGeom prst="verticalScroll">
              <a:avLst>
                <a:gd name="adj" fmla="val 12500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6480" y="189000"/>
              <a:ext cx="281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第一剧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35280" y="404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小燕的故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1305360"/>
            <a:ext cx="8352000" cy="131364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下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许，湖北省高管五大队民警在黄黄高速公路上巡逻，当巡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公里处时，看到有一少年在高速公路上行走。经询问得知：该少年姓汪，湖南长沙的一名中学生，暑假到安徽宿松会网友，到宿松后发现前来应约的是一群小混混，强行拉着让他请客吃饭。他很快就身无分文，于是决定沿高速步行回长沙，已经走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多小时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民警看他已经疲惫不堪，将其带至黄梅服务区，给他买来水和食品后帮其联系了一辆回长沙的客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788000" y="242100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5280" y="3994560"/>
            <a:ext cx="8353440" cy="1008720"/>
          </a:xfrm>
          <a:prstGeom prst="rect">
            <a:avLst/>
          </a:pr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安徽省庐江县某中学高中一年级的军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网上认识了一个网友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，军子连同余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项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男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相邀外出游玩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合肥到南昌，再到南宁、昆明，一路上从买车票到吃饭、住宿、上网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花费用全由网友支付，他们觉得这个网友很重义气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下午，他们来到云南省瑞丽市中缅边境的一个小村庄，一个中年男子接待了他们。之后那伙人叫他们轮流给家里打电话要钱。谁要是反抗，不打电话，就拳打脚踢，军子的头部被打伤缝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针。这时，他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才知道自己被网友骗了，成了人质。好在两地警方及时联手解救，最终脱离了危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59500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你认为网上交友应注意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0"/>
            <a:ext cx="22320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案例再现</a:t>
            </a:r>
            <a:endParaRPr b="0" lang="en-US" sz="1800" spc="1" strike="noStrike">
              <a:ln w="1584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2276640"/>
            <a:ext cx="770436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轻易说出有关自己真实情况的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轻易与网友见面，即使去也一定要有防范措施，最好能告诉你的父母或你信任的朋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遇到低级庸俗的网友，马上避开，不再理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49360"/>
            <a:ext cx="4572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  <a:ea typeface="隶书"/>
              </a:rPr>
              <a:t>温馨提示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网上交友规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1557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燕心情差极了，她穿上了新买的吊带衫和心爱的超短裙，决定独自出远门去姥姥家过暑假。站在这座陌生城市的十字路口，放下旅行包，四处张望。一辆风驰电掣的摩托车停在她身旁，车上的男青年问：“我可以帮你吗？”小燕怯生生地问：“请问人民路怎么走？”“正好同路，我送你。”男青年拿起小燕的旅行包，给了她一个头盔，载着小燕驶向前方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86900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、根据你的想象和猜测，给故事续写结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6560" y="216000"/>
            <a:ext cx="3025440" cy="1341360"/>
            <a:chOff x="466560" y="216000"/>
            <a:chExt cx="3025440" cy="1341360"/>
          </a:xfrm>
        </p:grpSpPr>
        <p:sp>
          <p:nvSpPr>
            <p:cNvPr id="68" name=""/>
            <p:cNvSpPr/>
            <p:nvPr/>
          </p:nvSpPr>
          <p:spPr>
            <a:xfrm rot="16200000">
              <a:off x="1222200" y="-539640"/>
              <a:ext cx="1341360" cy="2852640"/>
            </a:xfrm>
            <a:prstGeom prst="verticalScroll">
              <a:avLst>
                <a:gd name="adj" fmla="val 12500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2120" y="405000"/>
              <a:ext cx="281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第一剧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851280" y="620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小燕的故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537372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、为了避免类似的事件再次发生，你想对小燕说些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333360"/>
            <a:ext cx="4572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99"/>
                </a:solidFill>
                <a:latin typeface="Arial"/>
                <a:ea typeface="隶书"/>
              </a:rPr>
              <a:t>温馨提示（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女生自护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276640"/>
            <a:ext cx="83516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学、放学或外出游玩，要结伴而行，不去树林、山洞等偏僻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去营业性歌舞厅、录像厅、通宵电影院等潜伏不安全因素的地方娱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与陌生异性单独会面，不搭乘陌生人的车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21974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007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月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日，学校马上就要期末考试了。早上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点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分，丁丁背着书包独自去上学。因为家离学校比较远，丁丁需要搭车到学校，在车站等车时，一男子突然在丁丁的身后轻声说：“小朋友，我请你坐面包车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2868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丁丁还没反应过来，一只大手已从耳后绕过，迅速地捂住了他的口鼻。丁丁知道自己遇到坏人，遭绑架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66560" y="216000"/>
            <a:ext cx="3025440" cy="1341360"/>
            <a:chOff x="466560" y="216000"/>
            <a:chExt cx="3025440" cy="1341360"/>
          </a:xfrm>
        </p:grpSpPr>
        <p:sp>
          <p:nvSpPr>
            <p:cNvPr id="77" name=""/>
            <p:cNvSpPr/>
            <p:nvPr/>
          </p:nvSpPr>
          <p:spPr>
            <a:xfrm rot="16200000">
              <a:off x="1222200" y="-539640"/>
              <a:ext cx="1341360" cy="2852640"/>
            </a:xfrm>
            <a:prstGeom prst="verticalScroll">
              <a:avLst>
                <a:gd name="adj" fmla="val 12500"/>
              </a:avLst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2120" y="405000"/>
              <a:ext cx="281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第二剧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851280" y="620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丁丁的故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7:05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9:58Z</dcterms:modified>
  <cp:revision>1</cp:revision>
  <dc:subject>主题班会课件(分28大类): http://shop62905894.taobao.com</dc:subject>
  <dc:title>主题班会课件(分28大类): http://shop62905894.taobao.com</dc:title>
</cp:coreProperties>
</file>